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2.jpeg" ContentType="image/jpeg"/>
  <Override PartName="/ppt/media/image23.jpeg" ContentType="image/jpe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03794-FE28-46E6-AEAF-5C89D77A1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4B311-2B14-42A4-919C-0CABF24C9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E7484-D06F-4942-9C48-8F8CE32ED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0EC75-877C-420A-ADE7-132B46218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C6E83-BE6D-44F1-B932-B15BA487E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01C37-A0A2-4A4C-A443-226AC800D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34089-9FBA-45BF-A4E3-EE2843520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D2F1E-1E1D-4AD4-B238-A129FD47D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0664B-8F1B-45BC-84CD-A08B07EB8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3743C-EFD4-4336-A692-6993C3B41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BC088-8D66-4D0B-B2D7-75F65C993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4C85-1D09-45AE-B64F-D397B46FD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605E6-9B22-47F9-BD45-3898449DC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EB7EA-4094-4151-9437-0EABC8A81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21C72-F870-4A18-B78F-5AFDD02C4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9279E-6D78-4C7F-8C80-896EDFBED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64925-E877-4096-8C6F-475DB84AD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EF5A7-7D02-4960-B108-5344E467E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66342-2C77-402B-ACB5-5B9FC55E3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EF1F1-A3CE-414D-BA68-04D93F632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097AC-7FE8-4A05-862B-542EFEF01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69339-884C-41C1-BC78-CD3AF1A30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338F9-2D9B-416A-8ADA-2EBCC730F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EC59E-1088-47F4-BA62-E61B5915C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2491-0E90-4AB0-8B22-D2F5F02CA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63B9-2B60-4316-817F-E316BE5852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hapter 29</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essivism and the Republican Roosevelt</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01-19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essive Women</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ory reform &amp; temperan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uller v. Oregon-</a:t>
            </a:r>
            <a:r>
              <a:rPr b="0" lang="en-US" sz="3200" spc="-1" strike="noStrike">
                <a:solidFill>
                  <a:srgbClr val="ffffff"/>
                </a:solidFill>
                <a:latin typeface="Arial"/>
              </a:rPr>
              <a:t> Supreme Court accepts constitutionality of laws protecting women worker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d evidence of harmful effects on their “weaker” bodies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Christian Temperance Union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ntrol, restrict &amp; abolish alcoho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36">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osevelt’s Square Deal</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Deal for capital</a:t>
            </a:r>
            <a:r>
              <a:rPr b="0" lang="en-US" sz="3200" spc="-1" strike="noStrike">
                <a:solidFill>
                  <a:srgbClr val="ffffff"/>
                </a:solidFill>
                <a:latin typeface="Arial"/>
              </a:rPr>
              <a:t>, </a:t>
            </a:r>
            <a:r>
              <a:rPr b="0" lang="en-US" sz="3200" spc="-1" strike="noStrike">
                <a:solidFill>
                  <a:srgbClr val="ffffff"/>
                </a:solidFill>
                <a:latin typeface="Arial"/>
              </a:rPr>
              <a:t>labor &amp; public at large Three C’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of corporation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 protection</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rvation of natural resources</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strike breaks out amongst mine worker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 intervenes on side of workers</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ment of Commerce and Labor</a:t>
            </a:r>
            <a:endParaRPr b="0" lang="en-US" sz="3200" spc="-1" strike="noStrike">
              <a:solidFill>
                <a:srgbClr val="ffffff"/>
              </a:solidFill>
              <a:latin typeface="Arial"/>
            </a:endParaRPr>
          </a:p>
        </p:txBody>
      </p:sp>
      <p:pic>
        <p:nvPicPr>
          <p:cNvPr id="239" name="" descr=""/>
          <p:cNvPicPr/>
          <p:nvPr/>
        </p:nvPicPr>
        <p:blipFill>
          <a:blip r:embed="rId1"/>
          <a:stretch/>
        </p:blipFill>
        <p:spPr>
          <a:xfrm>
            <a:off x="6934320" y="2209680"/>
            <a:ext cx="1981080" cy="15354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ailroad Regulation </a:t>
            </a:r>
            <a:endParaRPr b="0" lang="en-US" sz="4400" spc="-1" strike="noStrike">
              <a:solidFill>
                <a:srgbClr val="ccecff"/>
              </a:solidFill>
              <a:latin typeface="Arial"/>
            </a:endParaRPr>
          </a:p>
        </p:txBody>
      </p:sp>
      <p:sp>
        <p:nvSpPr>
          <p:cNvPr id="241"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kins Act of 1903- heavy fines could be imposed on railroads &amp; shipp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pburn Act of 1906- gave ICC power to set maximum railroad rat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ed free passes to loyal passengers</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 descr=""/>
          <p:cNvPicPr/>
          <p:nvPr/>
        </p:nvPicPr>
        <p:blipFill>
          <a:blip r:embed="rId1"/>
          <a:stretch/>
        </p:blipFill>
        <p:spPr>
          <a:xfrm>
            <a:off x="3809880" y="4267080"/>
            <a:ext cx="1546200" cy="2305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ustbusting</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4 anti-trust laws using Sherman Anti-Trust A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thern Security Company- first successful prosecutio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ed NSC to be dissolved</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dition Act facilitates anti-trust prosecu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7" name="" descr=""/>
          <p:cNvPicPr/>
          <p:nvPr/>
        </p:nvPicPr>
        <p:blipFill>
          <a:blip r:embed="rId1"/>
          <a:stretch/>
        </p:blipFill>
        <p:spPr>
          <a:xfrm>
            <a:off x="2362320" y="228600"/>
            <a:ext cx="4192560" cy="635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lth Reform </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Jungle, </a:t>
            </a:r>
            <a:r>
              <a:rPr b="0" lang="en-US" sz="3200" spc="-1" strike="noStrike">
                <a:solidFill>
                  <a:srgbClr val="ffffff"/>
                </a:solidFill>
                <a:latin typeface="Arial"/>
              </a:rPr>
              <a:t>1906</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ton Sinclai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olting sensational nove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ted to appall the public w/ his description of unsanitary food produc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h, disease &amp; putrefaction of Chicago’s meat-packing industry</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 descr=""/>
          <p:cNvPicPr/>
          <p:nvPr/>
        </p:nvPicPr>
        <p:blipFill>
          <a:blip r:embed="rId1"/>
          <a:stretch/>
        </p:blipFill>
        <p:spPr>
          <a:xfrm>
            <a:off x="7315200" y="609480"/>
            <a:ext cx="1441440" cy="221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lth Reform</a:t>
            </a:r>
            <a:endParaRPr b="0" lang="en-US" sz="4400" spc="-1" strike="noStrike">
              <a:solidFill>
                <a:srgbClr val="ccecff"/>
              </a:solidFill>
              <a:latin typeface="Arial"/>
            </a:endParaRPr>
          </a:p>
        </p:txBody>
      </p:sp>
      <p:pic>
        <p:nvPicPr>
          <p:cNvPr id="252" name="Rectangle 68" descr=""/>
          <p:cNvPicPr/>
          <p:nvPr/>
        </p:nvPicPr>
        <p:blipFill>
          <a:blip r:embed="rId1"/>
          <a:stretch/>
        </p:blipFill>
        <p:spPr>
          <a:xfrm>
            <a:off x="304920" y="1463760"/>
            <a:ext cx="3886200" cy="3036960"/>
          </a:xfrm>
          <a:prstGeom prst="rect">
            <a:avLst/>
          </a:prstGeom>
          <a:ln w="0">
            <a:noFill/>
          </a:ln>
        </p:spPr>
      </p:pic>
      <p:pic>
        <p:nvPicPr>
          <p:cNvPr id="253" name="" descr=""/>
          <p:cNvPicPr/>
          <p:nvPr/>
        </p:nvPicPr>
        <p:blipFill>
          <a:blip r:embed="rId2"/>
          <a:stretch/>
        </p:blipFill>
        <p:spPr>
          <a:xfrm>
            <a:off x="5562720" y="1447920"/>
            <a:ext cx="2857320" cy="3057480"/>
          </a:xfrm>
          <a:prstGeom prst="rect">
            <a:avLst/>
          </a:prstGeom>
          <a:ln w="0">
            <a:noFill/>
          </a:ln>
        </p:spPr>
      </p:pic>
      <p:pic>
        <p:nvPicPr>
          <p:cNvPr id="254" name="" descr=""/>
          <p:cNvPicPr/>
          <p:nvPr/>
        </p:nvPicPr>
        <p:blipFill>
          <a:blip r:embed="rId3"/>
          <a:stretch/>
        </p:blipFill>
        <p:spPr>
          <a:xfrm>
            <a:off x="3809880" y="3809880"/>
            <a:ext cx="2219400" cy="304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lth Reform</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t Inspection Act, 1906</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ion of meat subject to federal inspection</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e Food and Drug Act, 1906</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ed mislabeling of foods &amp; pharmaceutica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 Control</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rvation efforts began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st Reserve Act of 1891</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zed president to set aside public forests as national park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 lover of the outdoo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lands Act of 1902</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rigation project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zens of dams</a:t>
            </a:r>
            <a:endParaRPr b="0" lang="en-US" sz="3200" spc="-1" strike="noStrike">
              <a:solidFill>
                <a:srgbClr val="ffffff"/>
              </a:solidFill>
              <a:latin typeface="Arial"/>
            </a:endParaRPr>
          </a:p>
        </p:txBody>
      </p:sp>
      <p:pic>
        <p:nvPicPr>
          <p:cNvPr id="259" name="" descr=""/>
          <p:cNvPicPr/>
          <p:nvPr/>
        </p:nvPicPr>
        <p:blipFill>
          <a:blip r:embed="rId1">
            <a:lum contrast="12000"/>
          </a:blip>
          <a:stretch/>
        </p:blipFill>
        <p:spPr>
          <a:xfrm>
            <a:off x="6553080" y="3352680"/>
            <a:ext cx="2041560" cy="327672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 Control</a:t>
            </a: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rvation became priority</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03- First national wildlife refuge (in Florida)</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05- U.S. Forest Service created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sevelt set aside 16 national monuments, 51 wildlife refuges and 5 new national parks (including the Grand Canyon, Mesa Verde, and Yosemite National Pa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essive Roots</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rogressives”- new crusaders who waged war on many evil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polie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up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injustice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ts: Greenback Labor Party &amp; Populis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Picture 5" descr="ANd9GcR8muXtzuFDZMm-3UU6-JCUqklakXJdWaWxQQghP6dlkNSGrj3j4w"/>
          <p:cNvPicPr/>
          <p:nvPr/>
        </p:nvPicPr>
        <p:blipFill>
          <a:blip r:embed="rId1"/>
          <a:stretch/>
        </p:blipFill>
        <p:spPr>
          <a:xfrm>
            <a:off x="3429000" y="4962600"/>
            <a:ext cx="2419200" cy="1895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63" name="Rectangle 68" descr=""/>
          <p:cNvPicPr/>
          <p:nvPr/>
        </p:nvPicPr>
        <p:blipFill>
          <a:blip r:embed="rId1"/>
          <a:stretch/>
        </p:blipFill>
        <p:spPr>
          <a:xfrm>
            <a:off x="2666880" y="762120"/>
            <a:ext cx="4313520" cy="55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osevelt Panic</a:t>
            </a:r>
            <a:endParaRPr b="0" lang="en-US"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07</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ightened “runs” on bank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sevelt blamed b/c of trustbust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ved the way for overdue fiscal refor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 descr=""/>
          <p:cNvPicPr/>
          <p:nvPr/>
        </p:nvPicPr>
        <p:blipFill>
          <a:blip r:embed="rId1"/>
          <a:stretch/>
        </p:blipFill>
        <p:spPr>
          <a:xfrm>
            <a:off x="2895480" y="4191120"/>
            <a:ext cx="3562560" cy="238104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5">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osevelt Legacy</a:t>
            </a: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larged power &amp; prestige of presidential offic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ed shape progressive movement</a:t>
            </a:r>
            <a:endParaRPr b="0" lang="en-US" sz="3200" spc="-1" strike="noStrike">
              <a:solidFill>
                <a:srgbClr val="ffffff"/>
              </a:solidFill>
              <a:latin typeface="Arial"/>
            </a:endParaRPr>
          </a:p>
          <a:p>
            <a:pPr lvl="1" marL="990720" indent="-533520">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quare deal</a:t>
            </a:r>
            <a:endParaRPr b="0" lang="en-US" sz="28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ded foreign policy </a:t>
            </a:r>
            <a:endParaRPr b="0" lang="en-US" sz="3200" spc="-1" strike="noStrike">
              <a:solidFill>
                <a:srgbClr val="ffffff"/>
              </a:solidFill>
              <a:latin typeface="Arial"/>
            </a:endParaRPr>
          </a:p>
        </p:txBody>
      </p:sp>
      <p:pic>
        <p:nvPicPr>
          <p:cNvPr id="269" name="" descr=""/>
          <p:cNvPicPr/>
          <p:nvPr/>
        </p:nvPicPr>
        <p:blipFill>
          <a:blip r:embed="rId1"/>
          <a:stretch/>
        </p:blipFill>
        <p:spPr>
          <a:xfrm>
            <a:off x="6095880" y="3276720"/>
            <a:ext cx="2476800" cy="326700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ction of 1908</a:t>
            </a:r>
            <a:endParaRPr b="0" lang="en-US"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ublican: William Howard Taf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crat: William Jennings Brya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ist: Eugene v. Deb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2" name="" descr=""/>
          <p:cNvPicPr/>
          <p:nvPr/>
        </p:nvPicPr>
        <p:blipFill>
          <a:blip r:embed="rId1"/>
          <a:stretch/>
        </p:blipFill>
        <p:spPr>
          <a:xfrm>
            <a:off x="1219320" y="3498840"/>
            <a:ext cx="6248160" cy="335916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71">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5" name="" descr=""/>
          <p:cNvPicPr/>
          <p:nvPr/>
        </p:nvPicPr>
        <p:blipFill>
          <a:blip r:embed="rId1"/>
          <a:stretch/>
        </p:blipFill>
        <p:spPr>
          <a:xfrm>
            <a:off x="2286000" y="228600"/>
            <a:ext cx="4719600" cy="623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77" name="Rectangle 68" descr=""/>
          <p:cNvPicPr/>
          <p:nvPr/>
        </p:nvPicPr>
        <p:blipFill>
          <a:blip r:embed="rId1"/>
          <a:stretch/>
        </p:blipFill>
        <p:spPr>
          <a:xfrm>
            <a:off x="2590920" y="609480"/>
            <a:ext cx="4387680" cy="5668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lliam H. Taft</a:t>
            </a:r>
            <a:endParaRPr b="0" lang="en-US" sz="4400" spc="-1" strike="noStrike">
              <a:solidFill>
                <a:srgbClr val="ccecff"/>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sted advisor to Roosevel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progressiv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he fit to be presid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llar diplomac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churia </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lamming” of Open Doo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0" name="" descr=""/>
          <p:cNvPicPr/>
          <p:nvPr/>
        </p:nvPicPr>
        <p:blipFill>
          <a:blip r:embed="rId1"/>
          <a:stretch/>
        </p:blipFill>
        <p:spPr>
          <a:xfrm>
            <a:off x="5638680" y="3886200"/>
            <a:ext cx="3200400" cy="217980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3" name="" descr=""/>
          <p:cNvPicPr/>
          <p:nvPr/>
        </p:nvPicPr>
        <p:blipFill>
          <a:blip r:embed="rId1"/>
          <a:stretch/>
        </p:blipFill>
        <p:spPr>
          <a:xfrm>
            <a:off x="1143000" y="990720"/>
            <a:ext cx="6781680" cy="4624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ft the Trustbuster</a:t>
            </a:r>
            <a:endParaRPr b="0" lang="en-US" sz="44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 antitrust law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11- Supreme Court orders dissolution of Standard Oil Compan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attacked US Steel Corporatio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uriated TR</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ann-Elkins Act-</a:t>
            </a:r>
            <a:r>
              <a:rPr b="0" lang="en-US" sz="3200" spc="-1" strike="noStrike">
                <a:solidFill>
                  <a:srgbClr val="ffffff"/>
                </a:solidFill>
                <a:latin typeface="Arial"/>
              </a:rPr>
              <a:t> 1910, gave more power to ICC (other indust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s Burea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85">
                                            <p:txEl>
                                              <p:pRg st="3" end="3"/>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85">
                                            <p:txEl>
                                              <p:pRg st="4" end="4"/>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ublican Party Splits </a:t>
            </a: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ayne-Aldrich Bill-</a:t>
            </a:r>
            <a:r>
              <a:rPr b="0" lang="en-US" sz="2800" spc="-1" strike="noStrike">
                <a:solidFill>
                  <a:srgbClr val="ffffff"/>
                </a:solidFill>
                <a:latin typeface="Arial"/>
              </a:rPr>
              <a:t> lowered tariffs on certain goods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ft was dedicated conservationist bu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Ballinger-Pinchot quarrel</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linger opened public lands to corporate development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chot criticizes him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ft dismisses Pinchot (insubordination)  </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ns rift between TR and Taf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 party split wide op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87">
                                            <p:txEl>
                                              <p:pRg st="4" end="4"/>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87">
                                            <p:txEl>
                                              <p:pRg st="5" end="5"/>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87">
                                            <p:txEl>
                                              <p:pRg st="6" end="6"/>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essives</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ob Ri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he Other Half Liv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tment of life in New York Slum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ced Teddy Roosevelt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8" name="Picture 5" descr="220px-Bandit's_Roost_by_Jacob_Riis"/>
          <p:cNvPicPr/>
          <p:nvPr/>
        </p:nvPicPr>
        <p:blipFill>
          <a:blip r:embed="rId1"/>
          <a:stretch/>
        </p:blipFill>
        <p:spPr>
          <a:xfrm>
            <a:off x="1219320" y="3886200"/>
            <a:ext cx="2095560" cy="2724120"/>
          </a:xfrm>
          <a:prstGeom prst="rect">
            <a:avLst/>
          </a:prstGeom>
          <a:ln w="0">
            <a:noFill/>
          </a:ln>
        </p:spPr>
      </p:pic>
      <p:pic>
        <p:nvPicPr>
          <p:cNvPr id="219" name="Picture 7" descr="riis%202"/>
          <p:cNvPicPr/>
          <p:nvPr/>
        </p:nvPicPr>
        <p:blipFill>
          <a:blip r:embed="rId2"/>
          <a:stretch/>
        </p:blipFill>
        <p:spPr>
          <a:xfrm>
            <a:off x="4343400" y="3962520"/>
            <a:ext cx="3352680" cy="2525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ft-Roosevelt Rupture </a:t>
            </a:r>
            <a:endParaRPr b="0" lang="en-US" sz="4400" spc="-1" strike="noStrike">
              <a:solidFill>
                <a:srgbClr val="ccecff"/>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ational Progressive Republican League formed, 1911</a:t>
            </a:r>
            <a:endParaRPr b="0" lang="en-US" sz="30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ollette leading candidate for nominat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 began considering running for a 3</a:t>
            </a:r>
            <a:r>
              <a:rPr b="0" lang="en-US" sz="2800" spc="-1" strike="noStrike" baseline="30000">
                <a:solidFill>
                  <a:srgbClr val="ffffff"/>
                </a:solidFill>
                <a:latin typeface="Arial"/>
              </a:rPr>
              <a:t>rd</a:t>
            </a:r>
            <a:r>
              <a:rPr b="0" lang="en-US" sz="2800" spc="-1" strike="noStrike">
                <a:solidFill>
                  <a:srgbClr val="ffffff"/>
                </a:solidFill>
                <a:latin typeface="Arial"/>
              </a:rPr>
              <a:t> term</a:t>
            </a:r>
            <a:endParaRPr b="0" lang="en-US" sz="2800" spc="-1" strike="noStrike">
              <a:solidFill>
                <a:srgbClr val="ffffff"/>
              </a:solidFill>
              <a:latin typeface="Arial"/>
            </a:endParaRPr>
          </a:p>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oosevelt defeated at Republican convention by Taft </a:t>
            </a:r>
            <a:endParaRPr b="0" lang="en-US" sz="30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r leads 3</a:t>
            </a:r>
            <a:r>
              <a:rPr b="0" lang="en-US" sz="2800" spc="-1" strike="noStrike" baseline="30000">
                <a:solidFill>
                  <a:srgbClr val="ffffff"/>
                </a:solidFill>
                <a:latin typeface="Arial"/>
              </a:rPr>
              <a:t>rd</a:t>
            </a:r>
            <a:r>
              <a:rPr b="0" lang="en-US" sz="2800" spc="-1" strike="noStrike">
                <a:solidFill>
                  <a:srgbClr val="ffffff"/>
                </a:solidFill>
                <a:latin typeface="Arial"/>
              </a:rPr>
              <a:t> party crusade..</a:t>
            </a:r>
            <a:endParaRPr b="0" lang="en-US" sz="2800" spc="-1" strike="noStrike">
              <a:solidFill>
                <a:srgbClr val="ffffff"/>
              </a:solidFill>
              <a:latin typeface="Arial"/>
            </a:endParaRPr>
          </a:p>
        </p:txBody>
      </p:sp>
      <p:pic>
        <p:nvPicPr>
          <p:cNvPr id="290" name="" descr=""/>
          <p:cNvPicPr/>
          <p:nvPr/>
        </p:nvPicPr>
        <p:blipFill>
          <a:blip r:embed="rId1"/>
          <a:stretch/>
        </p:blipFill>
        <p:spPr>
          <a:xfrm>
            <a:off x="1828800" y="5197320"/>
            <a:ext cx="5638680" cy="166068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89">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89">
                                            <p:txEl>
                                              <p:pRg st="2" end="2"/>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89">
                                            <p:txEl>
                                              <p:pRg st="3" end="3"/>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cerpt, </a:t>
            </a:r>
            <a:r>
              <a:rPr b="0" i="1" lang="en-US" sz="4000" spc="-1" strike="noStrike">
                <a:solidFill>
                  <a:srgbClr val="ccecff"/>
                </a:solidFill>
                <a:latin typeface="Arial"/>
              </a:rPr>
              <a:t>How the Other Half Liv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a little careful, please! The hall is dark and you might stumble over the children pitching pennies back there. Not that it would hurt them; kicks and cuffs are their daily diet. They have little else. Here where the hall turns and dives into utter darkness is a step, and another, another. A flight of stairs. You can feel your way, if you cannot see it. Close? Yes! What would you have? All the fresh air that ever enters these stairs comes from the hall-door that is forever slamming, and from the windows of dark bedrooms that in turn receive from the stairs their sole supply of the elements God meant to be free, but man deals out with such niggardly hand. That was a woman filling her pail by the hydrant you just bumped against. The sinks are in the hallway, that all the tenants may have access--and all be poisoned alike by their summer stenches. Hear the pump squeak! It is the lullaby of tenement-house babes. In summer, when a thousand thirsty throats pant for a cooling drink in this block, it is worked in vain. But the saloon, whose open door you passed in the hall, is always there. The smell of it has followed you up. Here is a door. Listen! That short hacking cough, that tiny, helpless wail--what do they mean? They mean that the soiled bow of white you saw on the door downstairs will have another story to tell--Oh! a sadly familiar story--before the day is at an end. The child is dying with measles. With half a chance it might have lived; but it had none. That dark bedroom killed i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ckrakers</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urnalists who dug deep for “dirt” that public loved to h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ely circulat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ven published as book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Clure’s Magazin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hame of the Citie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fact-checking</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4" name="Picture 5" descr="File:McCluresCoverJan1901.jpg"/>
          <p:cNvPicPr/>
          <p:nvPr/>
        </p:nvPicPr>
        <p:blipFill>
          <a:blip r:embed="rId1"/>
          <a:stretch/>
        </p:blipFill>
        <p:spPr>
          <a:xfrm>
            <a:off x="6477120" y="2362320"/>
            <a:ext cx="2485800" cy="3571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ckrakers</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G. Phillips</a:t>
            </a:r>
            <a:endParaRPr b="0" lang="en-US" sz="28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smopolitan</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Treason of the Senate”</a:t>
            </a:r>
            <a:endParaRPr b="0" lang="en-US" sz="2400" spc="-1" strike="noStrike">
              <a:solidFill>
                <a:srgbClr val="ffffff"/>
              </a:solidFill>
              <a:latin typeface="Arial"/>
            </a:endParaRPr>
          </a:p>
          <a:p>
            <a:pPr lvl="2" marL="1131480" indent="-22608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illionaire’s club”</a:t>
            </a:r>
            <a:endParaRPr b="0" lang="en-US" sz="2000" spc="-1" strike="noStrike">
              <a:solidFill>
                <a:srgbClr val="ffffff"/>
              </a:solidFill>
              <a:latin typeface="Arial"/>
            </a:endParaRPr>
          </a:p>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ed at social evils</a:t>
            </a:r>
            <a:endParaRPr b="0" lang="en-US" sz="28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hite slave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um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ial accident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labor</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ines </a:t>
            </a:r>
            <a:endParaRPr b="0" lang="en-US" sz="2400" spc="-1" strike="noStrike">
              <a:solidFill>
                <a:srgbClr val="ffffff"/>
              </a:solidFill>
              <a:latin typeface="Arial"/>
            </a:endParaRPr>
          </a:p>
          <a:p>
            <a:pPr marL="339480" indent="-33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ed nature of the progressive movement </a:t>
            </a:r>
            <a:endParaRPr b="0" lang="en-US" sz="28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nted to cleanse evils of society</a:t>
            </a:r>
            <a:endParaRPr b="0" lang="en-US" sz="2400" spc="-1" strike="noStrike">
              <a:solidFill>
                <a:srgbClr val="ffffff"/>
              </a:solidFill>
              <a:latin typeface="Arial"/>
            </a:endParaRPr>
          </a:p>
        </p:txBody>
      </p:sp>
      <p:pic>
        <p:nvPicPr>
          <p:cNvPr id="227" name="Picture 5" descr="ANd9GcTl3bm-fpGC12nraokPYOV_vPmo2HoRJ9RgP7IL92Uv9ci755lUog"/>
          <p:cNvPicPr/>
          <p:nvPr/>
        </p:nvPicPr>
        <p:blipFill>
          <a:blip r:embed="rId1"/>
          <a:stretch/>
        </p:blipFill>
        <p:spPr>
          <a:xfrm>
            <a:off x="5410080" y="1828800"/>
            <a:ext cx="3581640" cy="26827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26">
                                            <p:txEl>
                                              <p:pRg st="10" end="1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2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litical Progressivism</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goals:</a:t>
            </a:r>
            <a:endParaRPr b="0" lang="en-US" sz="2800" spc="-1" strike="noStrike">
              <a:solidFill>
                <a:srgbClr val="ffffff"/>
              </a:solidFill>
              <a:latin typeface="Arial"/>
            </a:endParaRPr>
          </a:p>
          <a:p>
            <a:pPr lvl="1" marL="990720" indent="-533520">
              <a:spcBef>
                <a:spcPts val="601"/>
              </a:spcBef>
              <a:buClr>
                <a:srgbClr val="cce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tate power to curb trusts </a:t>
            </a:r>
            <a:endParaRPr b="0" lang="en-US" sz="2400" spc="-1" strike="noStrike">
              <a:solidFill>
                <a:srgbClr val="ffffff"/>
              </a:solidFill>
              <a:latin typeface="Arial"/>
            </a:endParaRPr>
          </a:p>
          <a:p>
            <a:pPr lvl="1" marL="990720" indent="-533520">
              <a:spcBef>
                <a:spcPts val="601"/>
              </a:spcBef>
              <a:buClr>
                <a:srgbClr val="cce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 socialist threat by improving common person’s conditions of life &amp; labor</a:t>
            </a:r>
            <a:endParaRPr b="0" lang="en-US" sz="24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power back into hands of people:</a:t>
            </a:r>
            <a:endParaRPr b="0" lang="en-US" sz="28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primary elections</a:t>
            </a:r>
            <a:endParaRPr b="0" lang="en-US" sz="24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ve</a:t>
            </a:r>
            <a:endParaRPr b="0" lang="en-US" sz="24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dum</a:t>
            </a:r>
            <a:endParaRPr b="0" lang="en-US" sz="24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all</a:t>
            </a:r>
            <a:endParaRPr b="0" lang="en-US" sz="24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a:t>
            </a:r>
            <a:r>
              <a:rPr b="0" lang="en-US" sz="2400" spc="-1" strike="noStrike" baseline="30000">
                <a:solidFill>
                  <a:srgbClr val="ffffff"/>
                </a:solidFill>
                <a:latin typeface="Arial"/>
              </a:rPr>
              <a:t>th</a:t>
            </a:r>
            <a:r>
              <a:rPr b="0" lang="en-US" sz="2400" spc="-1" strike="noStrike">
                <a:solidFill>
                  <a:srgbClr val="ffffff"/>
                </a:solidFill>
                <a:latin typeface="Arial"/>
              </a:rPr>
              <a:t> amendment- direct elections of senator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29">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29">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2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essivism in Cities &amp; States</a:t>
            </a: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bert La Follette- governor of Wisconsi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militant of Republican Progressive leader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ed control to people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ram W. Johnson- Republican governor of California</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ke dominant grip of Southern Pacific Railroad on Californ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essive Women </a:t>
            </a:r>
            <a:endParaRPr b="0" lang="en-US" sz="44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lement house move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ry club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eparate spheres”- woman’s place is the hom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aternal” issu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labor, safe food products, pension for mothers w/ dependent children </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Trade Union League, National Consumer’s League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stage for social investigation </a:t>
            </a:r>
            <a:endParaRPr b="0" lang="en-US" sz="2400" spc="-1" strike="noStrike">
              <a:solidFill>
                <a:srgbClr val="ffffff"/>
              </a:solidFill>
              <a:latin typeface="Arial"/>
            </a:endParaRPr>
          </a:p>
        </p:txBody>
      </p:sp>
      <p:pic>
        <p:nvPicPr>
          <p:cNvPr id="234" name="Picture 5" descr="wilpf-big"/>
          <p:cNvPicPr/>
          <p:nvPr/>
        </p:nvPicPr>
        <p:blipFill>
          <a:blip r:embed="rId1"/>
          <a:stretch/>
        </p:blipFill>
        <p:spPr>
          <a:xfrm>
            <a:off x="6553080" y="4917960"/>
            <a:ext cx="2590920" cy="194004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33">
                                            <p:txEl>
                                              <p:pRg st="5" end="5"/>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57:32Z</dcterms:created>
  <dc:creator>emily.johnson</dc:creator>
  <dc:description/>
  <dc:language>en-US</dc:language>
  <cp:lastModifiedBy>emily.johnson</cp:lastModifiedBy>
  <dcterms:modified xsi:type="dcterms:W3CDTF">2013-02-11T21:48:57Z</dcterms:modified>
  <cp:revision>13</cp:revision>
  <dc:subject/>
  <dc:title>Chapter 29</dc:title>
</cp:coreProperties>
</file>